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DEA8-A775-47A2-A514-CB4FF6283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BE41-A2EF-46D2-B811-F7B906D4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2A1-D8EE-4E54-B1D1-CC3968282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608B-AAD7-4DCD-9BDF-1E7490A7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9E3-EE5C-4FBC-9FF3-82C7C6CE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64C-8DC5-445A-B251-7A10DC47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935-4739-4088-B942-CB1CA103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8DD-651C-4570-9F40-484FB8D8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C9D-5407-4A67-A554-A17097C6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B7D-67C8-43DC-9D17-B7B62C3C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1DF-B072-467D-BB83-1B42B217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5D1-943F-4505-BA4F-4B891F7A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D1A-EFDB-4B08-8D76-D73500F0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5FC-E631-4A89-B857-4D0F8431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C7C-895A-4866-86D0-80E94D0E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4AC-2223-4AF4-90A5-2B405C86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D02C-4199-4BBE-9322-8DCF52D27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consultantplus://offline/ref=3B809243EA6667783D9D19EA039CAD16E4AC8EE514EEFAC517D551462D73A7791FC1F4CE1A56CDC883DCDA18F7D13C1F43637475FF2F9BBCG0r0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79"/>
          <p:cNvSpPr/>
          <p:nvPr/>
        </p:nvSpPr>
        <p:spPr>
          <a:xfrm>
            <a:off x="154080" y="515880"/>
            <a:ext cx="8655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а №</a:t>
            </a:r>
            <a:r>
              <a:rPr b="1" lang="en-U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0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Сведения о медицинской организации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1582560" y="1563840"/>
            <a:ext cx="631224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4500"/>
                </a:solidFill>
                <a:latin typeface="Times New Roman"/>
              </a:rPr>
              <a:t>РАЗДЕЛ II.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4500"/>
                </a:solidFill>
                <a:latin typeface="Times New Roman"/>
              </a:rPr>
              <a:t>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154080" y="3411360"/>
            <a:ext cx="5362560" cy="2988000"/>
          </a:xfrm>
          <a:prstGeom prst="rect">
            <a:avLst/>
          </a:prstGeom>
          <a:ln w="0">
            <a:noFill/>
          </a:ln>
        </p:spPr>
      </p:pic>
      <p:sp>
        <p:nvSpPr>
          <p:cNvPr id="65" name="Подзаголовок 2"/>
          <p:cNvSpPr/>
          <p:nvPr/>
        </p:nvSpPr>
        <p:spPr>
          <a:xfrm>
            <a:off x="5516640" y="5811840"/>
            <a:ext cx="34322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0400" y="283680"/>
            <a:ext cx="7292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редитация специалистов со средним медицинским и фармацевтическим образованием на конец 2020 год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760" y="969840"/>
          <a:ext cx="8013600" cy="5656320"/>
        </p:xfrm>
        <a:graphic>
          <a:graphicData uri="http://schemas.openxmlformats.org/drawingml/2006/table">
            <a:tbl>
              <a:tblPr/>
              <a:tblGrid>
                <a:gridCol w="5005080"/>
                <a:gridCol w="982800"/>
                <a:gridCol w="2025720"/>
              </a:tblGrid>
              <a:tr h="125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по специальности (из стр.144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я профилактическа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я ортопедическа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естринского дел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ской деятельностью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(бакалавриат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7226280" y="2797200"/>
            <a:ext cx="595440" cy="415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7238880" y="3213000"/>
            <a:ext cx="595440" cy="4176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"/>
          <p:cNvPicPr/>
          <p:nvPr/>
        </p:nvPicPr>
        <p:blipFill>
          <a:blip r:embed="rId3"/>
          <a:stretch/>
        </p:blipFill>
        <p:spPr>
          <a:xfrm>
            <a:off x="7226280" y="4753080"/>
            <a:ext cx="595440" cy="417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"/>
          <p:cNvPicPr/>
          <p:nvPr/>
        </p:nvPicPr>
        <p:blipFill>
          <a:blip r:embed="rId4"/>
          <a:stretch/>
        </p:blipFill>
        <p:spPr>
          <a:xfrm>
            <a:off x="7238880" y="5170320"/>
            <a:ext cx="595440" cy="4161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"/>
          <p:cNvPicPr/>
          <p:nvPr/>
        </p:nvPicPr>
        <p:blipFill>
          <a:blip r:embed="rId5"/>
          <a:stretch/>
        </p:blipFill>
        <p:spPr>
          <a:xfrm>
            <a:off x="7226280" y="3983040"/>
            <a:ext cx="59544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0400" y="283680"/>
            <a:ext cx="7292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редитация специалистов со средним медицинским и фармацевтическим образованием на конец 2020 год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8760" y="969840"/>
          <a:ext cx="8013600" cy="5635800"/>
        </p:xfrm>
        <a:graphic>
          <a:graphicData uri="http://schemas.openxmlformats.org/drawingml/2006/table">
            <a:tbl>
              <a:tblPr/>
              <a:tblGrid>
                <a:gridCol w="5005080"/>
                <a:gridCol w="982800"/>
                <a:gridCol w="2025720"/>
              </a:tblGrid>
              <a:tr h="85752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04200"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(стр. 144):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заведующие фельдшерско-акушерским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ельдшерским) пунктом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ные техник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лабораторная диагности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лабораторная диагности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птики-оптометристы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технолог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6711840" y="3081240"/>
            <a:ext cx="15620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0400" y="283680"/>
            <a:ext cx="7292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редитация специалистов со средним медицинским и фармацевтическим образованием на конец 2020 год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28760" y="969840"/>
          <a:ext cx="8013600" cy="5796000"/>
        </p:xfrm>
        <a:graphic>
          <a:graphicData uri="http://schemas.openxmlformats.org/drawingml/2006/table">
            <a:tbl>
              <a:tblPr/>
              <a:tblGrid>
                <a:gridCol w="5005080"/>
                <a:gridCol w="982800"/>
                <a:gridCol w="2025720"/>
              </a:tblGrid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marL="165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сестра (фельдшер) по приему вызовов скорой медицинской помощи и передаче их выездным бригадам скорой медицинской помощ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тные (постовые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ные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язочно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ассажу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 marL="165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дурно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илизационно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врачей-терапевтов участков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врачей-педиатров участков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Рисунок 16" descr=""/>
          <p:cNvPicPr/>
          <p:nvPr/>
        </p:nvPicPr>
        <p:blipFill>
          <a:blip r:embed="rId1"/>
          <a:stretch/>
        </p:blipFill>
        <p:spPr>
          <a:xfrm>
            <a:off x="6711840" y="3081240"/>
            <a:ext cx="15620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0400" y="283680"/>
            <a:ext cx="7292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редитация специалистов со средним медицинским и фармацевтическим образованием на конец 2020 год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8760" y="969840"/>
          <a:ext cx="8013600" cy="5361120"/>
        </p:xfrm>
        <a:graphic>
          <a:graphicData uri="http://schemas.openxmlformats.org/drawingml/2006/table">
            <a:tbl>
              <a:tblPr/>
              <a:tblGrid>
                <a:gridCol w="5005080"/>
                <a:gridCol w="982800"/>
                <a:gridCol w="2025720"/>
              </a:tblGrid>
              <a:tr h="74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и  враче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специальности: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а и санитар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емиология -паразитолог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работают на основной работе в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х подчинения: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Рисунок 13" descr=""/>
          <p:cNvPicPr/>
          <p:nvPr/>
        </p:nvPicPr>
        <p:blipFill>
          <a:blip r:embed="rId1"/>
          <a:stretch/>
        </p:blipFill>
        <p:spPr>
          <a:xfrm>
            <a:off x="6729480" y="2432160"/>
            <a:ext cx="1562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716040" y="2049480"/>
            <a:ext cx="7540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ЗМЕНЕНИЯ 2020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ПОЯСНЕНИЯ К ТАБЛИЦЕ 110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«Должности и физические лица медицинской организации»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00160" y="1143000"/>
          <a:ext cx="8721720" cy="5456160"/>
        </p:xfrm>
        <a:graphic>
          <a:graphicData uri="http://schemas.openxmlformats.org/drawingml/2006/table">
            <a:tbl>
              <a:tblPr/>
              <a:tblGrid>
                <a:gridCol w="1828800"/>
                <a:gridCol w="479160"/>
                <a:gridCol w="669960"/>
                <a:gridCol w="595440"/>
                <a:gridCol w="745920"/>
                <a:gridCol w="665280"/>
                <a:gridCol w="746280"/>
                <a:gridCol w="663480"/>
                <a:gridCol w="1163520"/>
                <a:gridCol w="1163880"/>
              </a:tblGrid>
              <a:tr h="9442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ой лабораторной диагностик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,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25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0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 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75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25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: лаборантов             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47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6969240" y="4081320"/>
            <a:ext cx="1617480" cy="346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ая прямоугольная выноска 9"/>
          <p:cNvSpPr/>
          <p:nvPr/>
        </p:nvSpPr>
        <p:spPr>
          <a:xfrm>
            <a:off x="5207040" y="3222720"/>
            <a:ext cx="1739880" cy="635040"/>
          </a:xfrm>
          <a:prstGeom prst="wedgeRoundRectCallout">
            <a:avLst>
              <a:gd name="adj1" fmla="val 36912"/>
              <a:gd name="adj2" fmla="val 95833"/>
              <a:gd name="adj3" fmla="val 16667"/>
            </a:avLst>
          </a:prstGeom>
          <a:solidFill>
            <a:srgbClr val="464a72"/>
          </a:solidFill>
          <a:ln w="9360">
            <a:solidFill>
              <a:srgbClr val="464a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a8b00"/>
                </a:solidFill>
                <a:latin typeface="Arial"/>
              </a:rPr>
              <a:t>Высшее медицинское образова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7"/>
          <p:cNvSpPr/>
          <p:nvPr/>
        </p:nvSpPr>
        <p:spPr>
          <a:xfrm rot="2580000">
            <a:off x="6078240" y="4719240"/>
            <a:ext cx="1782720" cy="1355760"/>
          </a:xfrm>
          <a:custGeom>
            <a:avLst/>
            <a:gdLst>
              <a:gd name="textAreaLeft" fmla="*/ 261000 w 1782720"/>
              <a:gd name="textAreaRight" fmla="*/ 1521720 w 1782720"/>
              <a:gd name="textAreaTop" fmla="*/ 198360 h 1355760"/>
              <a:gd name="textAreaBottom" fmla="*/ 1157400 h 13557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7772400" y="4649760"/>
            <a:ext cx="1122480" cy="409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ая прямоугольная выноска 12"/>
          <p:cNvSpPr/>
          <p:nvPr/>
        </p:nvSpPr>
        <p:spPr>
          <a:xfrm>
            <a:off x="2795760" y="5170320"/>
            <a:ext cx="4151160" cy="635040"/>
          </a:xfrm>
          <a:prstGeom prst="wedgeRoundRectCallout">
            <a:avLst>
              <a:gd name="adj1" fmla="val -38675"/>
              <a:gd name="adj2" fmla="val -79606"/>
              <a:gd name="adj3" fmla="val 16667"/>
            </a:avLst>
          </a:prstGeom>
          <a:solidFill>
            <a:srgbClr val="ffbc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величение штатной численности и физлиц не должно быть. Вновь принятые специалисты  принимаются на должность «Биолог»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ая прямоугольная выноска 9"/>
          <p:cNvSpPr/>
          <p:nvPr/>
        </p:nvSpPr>
        <p:spPr>
          <a:xfrm>
            <a:off x="5189400" y="3222720"/>
            <a:ext cx="1739880" cy="635040"/>
          </a:xfrm>
          <a:prstGeom prst="wedgeRoundRectCallout">
            <a:avLst>
              <a:gd name="adj1" fmla="val 36912"/>
              <a:gd name="adj2" fmla="val 95833"/>
              <a:gd name="adj3" fmla="val 16667"/>
            </a:avLst>
          </a:prstGeom>
          <a:solidFill>
            <a:srgbClr val="ffbc59"/>
          </a:solidFill>
          <a:ln w="9360">
            <a:solidFill>
              <a:srgbClr val="464a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меют высшее медицинское образова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50920" y="1424160"/>
          <a:ext cx="8542080" cy="3200400"/>
        </p:xfrm>
        <a:graphic>
          <a:graphicData uri="http://schemas.openxmlformats.org/drawingml/2006/table">
            <a:tbl>
              <a:tblPr/>
              <a:tblGrid>
                <a:gridCol w="157320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38"/>
          <p:cNvSpPr/>
          <p:nvPr/>
        </p:nvSpPr>
        <p:spPr>
          <a:xfrm>
            <a:off x="250920" y="5057640"/>
            <a:ext cx="8466120" cy="1024200"/>
          </a:xfrm>
          <a:prstGeom prst="rect">
            <a:avLst/>
          </a:prstGeom>
          <a:solidFill>
            <a:srgbClr val="ffe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казом Минздрава РФ от 04.09.2020 №939н введены новые врачебные должности в Номенклатуру должностей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етский онколог-гематолог, медицинский микробиолог, физической и реабилитационной медицины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о итогам 2020 года новые врачебные должности указываются в строке 122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7760" y="2122560"/>
          <a:ext cx="8450280" cy="29210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376280" y="746280"/>
            <a:ext cx="659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6802560" y="4413240"/>
            <a:ext cx="1927080" cy="630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41"/>
          <p:cNvSpPr/>
          <p:nvPr/>
        </p:nvSpPr>
        <p:spPr>
          <a:xfrm>
            <a:off x="5103720" y="5073480"/>
            <a:ext cx="3757680" cy="824040"/>
          </a:xfrm>
          <a:prstGeom prst="rect">
            <a:avLst/>
          </a:prstGeom>
          <a:gradFill rotWithShape="0">
            <a:gsLst>
              <a:gs pos="0">
                <a:srgbClr val="f5fbfc"/>
              </a:gs>
              <a:gs pos="100000">
                <a:srgbClr val="c6e6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Строка 126 по графе 16 не заполняе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17 – заполняе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915"/>
          <p:cNvSpPr/>
          <p:nvPr/>
        </p:nvSpPr>
        <p:spPr>
          <a:xfrm>
            <a:off x="3040200" y="2647800"/>
            <a:ext cx="5951520" cy="83844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127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не включаю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17"/>
          <p:cNvSpPr/>
          <p:nvPr/>
        </p:nvSpPr>
        <p:spPr>
          <a:xfrm>
            <a:off x="3040200" y="3586320"/>
            <a:ext cx="5951520" cy="39996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15"/>
          <p:cNvSpPr/>
          <p:nvPr/>
        </p:nvSpPr>
        <p:spPr>
          <a:xfrm>
            <a:off x="3040200" y="4087800"/>
            <a:ext cx="5951520" cy="153504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тите внимание на заполнение графы 15 «Имеют сертификат» -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указывается при наличии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документа установленного образц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16 «Имеют свидетельство об аккредитации» должна быть равна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15"/>
          <p:cNvSpPr/>
          <p:nvPr/>
        </p:nvSpPr>
        <p:spPr>
          <a:xfrm>
            <a:off x="3060720" y="5757840"/>
            <a:ext cx="5931000" cy="74124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Обратите внимание при наличии граф с нулевым значением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27120" y="836640"/>
          <a:ext cx="8205840" cy="5681520"/>
        </p:xfrm>
        <a:graphic>
          <a:graphicData uri="http://schemas.openxmlformats.org/drawingml/2006/table">
            <a:tbl>
              <a:tblPr/>
              <a:tblGrid>
                <a:gridCol w="1285920"/>
                <a:gridCol w="515880"/>
                <a:gridCol w="671400"/>
                <a:gridCol w="744480"/>
                <a:gridCol w="595440"/>
                <a:gridCol w="669960"/>
                <a:gridCol w="596880"/>
                <a:gridCol w="669960"/>
                <a:gridCol w="817560"/>
                <a:gridCol w="819000"/>
                <a:gridCol w="819360"/>
              </a:tblGrid>
              <a:tr h="1004400">
                <a:tc rowSpan="3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68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 по специальностям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и экономика фарм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техн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химия и фармакогнозия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рмац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овая строк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713"/>
          <p:cNvSpPr/>
          <p:nvPr/>
        </p:nvSpPr>
        <p:spPr>
          <a:xfrm>
            <a:off x="2449440" y="3506760"/>
            <a:ext cx="6383520" cy="6127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39 должна быть равна сумме строк с 140 по 143 по графе 9, 12-17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65280" y="1554120"/>
          <a:ext cx="7902360" cy="5118120"/>
        </p:xfrm>
        <a:graphic>
          <a:graphicData uri="http://schemas.openxmlformats.org/drawingml/2006/table">
            <a:tbl>
              <a:tblPr/>
              <a:tblGrid>
                <a:gridCol w="1904760"/>
                <a:gridCol w="3679920"/>
                <a:gridCol w="2317680"/>
              </a:tblGrid>
              <a:tr h="921240">
                <a:tc rowSpan="2"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иказ Минздрав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и </a:t>
                      </a:r>
                      <a:r>
                        <a:rPr b="1" lang="ru-RU" sz="1400" spc="-1" strike="noStrike">
                          <a:solidFill>
                            <a:srgbClr val="b06800"/>
                          </a:solidFill>
                          <a:latin typeface="Arial"/>
                        </a:rPr>
                        <a:t>от 20.12.2012 №1183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ая специальность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ость, дающая право на ее занятие: сертификат/свидетельство об аккредит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92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ы Минздрава России </a:t>
                      </a:r>
                      <a:r>
                        <a:rPr b="1" lang="ru-RU" sz="1400" spc="-1" strike="noStrike">
                          <a:solidFill>
                            <a:srgbClr val="b06800"/>
                          </a:solidFill>
                          <a:latin typeface="Arial"/>
                        </a:rPr>
                        <a:t>от 08.10.2015 №707н и от 10.02.2016 № 83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880">
                <a:tc gridSpan="3"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и-специалист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436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шер-гинек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итет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бное дело, Педиатр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интернатура/ординатура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врачебная практика (семейная медицина), Терап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шерство и гинеколог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113436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лерголог – иммун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итет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бное дело, Педиатр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интернатура/ординатура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врачебная практика (семейная медицина), Терапия, Педиатр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лергология и иммунолог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92124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стезиолог-реанимат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ит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бное дело, Педиатр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интернатура/ординатура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натология, Нефролог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стезиология-реаниматолог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</a:tbl>
          </a:graphicData>
        </a:graphic>
      </p:graphicFrame>
      <p:sp>
        <p:nvSpPr>
          <p:cNvPr id="67" name="Подзаголовок 2"/>
          <p:cNvSpPr/>
          <p:nvPr/>
        </p:nvSpPr>
        <p:spPr>
          <a:xfrm>
            <a:off x="870120" y="195120"/>
            <a:ext cx="758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емственность нормативных документов по допуску к профессиональной деятельности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39840" y="631800"/>
          <a:ext cx="3735360" cy="6083280"/>
        </p:xfrm>
        <a:graphic>
          <a:graphicData uri="http://schemas.openxmlformats.org/drawingml/2006/table">
            <a:tbl>
              <a:tblPr/>
              <a:tblGrid>
                <a:gridCol w="3220920"/>
                <a:gridCol w="514440"/>
              </a:tblGrid>
              <a:tr h="125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специальности (из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.144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кушер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ечебн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матолог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матология профилактическа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матология ортопедическа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рганизация сестринского дел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ской деятельностью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(бакалавриат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68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6800"/>
                    </a:solidFill>
                  </a:tcPr>
                </a:tc>
              </a:tr>
            </a:tbl>
          </a:graphicData>
        </a:graphic>
      </p:graphicFrame>
      <p:sp>
        <p:nvSpPr>
          <p:cNvPr id="136" name="Rectangle 915"/>
          <p:cNvSpPr/>
          <p:nvPr/>
        </p:nvSpPr>
        <p:spPr>
          <a:xfrm>
            <a:off x="4075200" y="631800"/>
            <a:ext cx="4962600" cy="12715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!</a:t>
            </a:r>
            <a:r>
              <a:rPr b="1" lang="ru-RU" sz="1600" spc="-1" strike="noStrike">
                <a:solidFill>
                  <a:srgbClr val="754500"/>
                </a:solidFill>
                <a:latin typeface="Times New Roman"/>
                <a:ea typeface="Arial"/>
              </a:rPr>
              <a:t>До 2020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года строки по специальностям среднего медицинского персонала указывались из общего числа медицинских сестер. </a:t>
            </a:r>
            <a:r>
              <a:rPr b="1" lang="ru-RU" sz="1600" spc="-1" strike="noStrike">
                <a:solidFill>
                  <a:srgbClr val="754500"/>
                </a:solidFill>
                <a:latin typeface="Times New Roman"/>
                <a:ea typeface="Arial"/>
              </a:rPr>
              <a:t>С 2020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года – из общего числа среднего медицинского персонал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80"/>
          <p:cNvSpPr/>
          <p:nvPr/>
        </p:nvSpPr>
        <p:spPr>
          <a:xfrm>
            <a:off x="4270320" y="5334120"/>
            <a:ext cx="4767480" cy="1412640"/>
          </a:xfrm>
          <a:prstGeom prst="rect">
            <a:avLst/>
          </a:prstGeom>
          <a:solidFill>
            <a:srgbClr val="b0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бакалавриа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 направлению подготовки "Сестринское дел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Медицинская сестра общей практики, медицинская сестра по паллиативной помощи, медицинская сестра по профилактике, медицинская сестра по реабилит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20"/>
          <p:cNvSpPr/>
          <p:nvPr/>
        </p:nvSpPr>
        <p:spPr>
          <a:xfrm>
            <a:off x="4046400" y="6512040"/>
            <a:ext cx="425520" cy="32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63"/>
          <p:cNvSpPr/>
          <p:nvPr/>
        </p:nvSpPr>
        <p:spPr>
          <a:xfrm>
            <a:off x="4173480" y="2085840"/>
            <a:ext cx="4864320" cy="30290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« и подготовка в интернатур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пециальности "Управление сестринской деятельностью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меститель руководителя МО; главная медицинская сестра (главная акушерка, главный фельдшер); директор больницы (дома) сестринского ухода, хосписа; заведующий (начальник) структурного подразделения (отдела, отделения, лаборатории, кабинета, отряда и другое) медицинской организации - врач-статистик; заведующий (начальник) структурного подразделения (отдела, отделения, лаборатории, кабинета, отряда и другое) медицинской организации - врач-методист; врач-статистик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20"/>
          <p:cNvSpPr/>
          <p:nvPr/>
        </p:nvSpPr>
        <p:spPr>
          <a:xfrm flipV="1">
            <a:off x="3944880" y="4987440"/>
            <a:ext cx="511200" cy="9939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39840" y="631800"/>
          <a:ext cx="4817880" cy="5656320"/>
        </p:xfrm>
        <a:graphic>
          <a:graphicData uri="http://schemas.openxmlformats.org/drawingml/2006/table">
            <a:tbl>
              <a:tblPr/>
              <a:tblGrid>
                <a:gridCol w="4081320"/>
                <a:gridCol w="736560"/>
              </a:tblGrid>
              <a:tr h="125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по специальности (из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стр.144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кушер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ечебн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матолог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матология профилактическа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матология ортопедическа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рганизация сестринского дел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правление сестринской деятельностью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стринское дело (бакалавриат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880"/>
          <p:cNvSpPr/>
          <p:nvPr/>
        </p:nvSpPr>
        <p:spPr>
          <a:xfrm>
            <a:off x="5157720" y="5649840"/>
            <a:ext cx="3986280" cy="43200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 высшим медицинским образованием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4367160" y="5553000"/>
            <a:ext cx="790560" cy="7351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7"/>
          <p:cNvSpPr/>
          <p:nvPr/>
        </p:nvSpPr>
        <p:spPr>
          <a:xfrm>
            <a:off x="4367160" y="5073480"/>
            <a:ext cx="790560" cy="4305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b06800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80"/>
          <p:cNvSpPr/>
          <p:nvPr/>
        </p:nvSpPr>
        <p:spPr>
          <a:xfrm>
            <a:off x="5157720" y="5121360"/>
            <a:ext cx="3986280" cy="431640"/>
          </a:xfrm>
          <a:prstGeom prst="rect">
            <a:avLst/>
          </a:prstGeom>
          <a:solidFill>
            <a:srgbClr val="b0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о средним медицинским образованием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19"/>
          <p:cNvSpPr/>
          <p:nvPr/>
        </p:nvSpPr>
        <p:spPr>
          <a:xfrm>
            <a:off x="5157720" y="3125880"/>
            <a:ext cx="3986280" cy="101916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строк 144 – (148+157) указывает на прочие специальности среднего медицинского персонал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19"/>
          <p:cNvSpPr/>
          <p:nvPr/>
        </p:nvSpPr>
        <p:spPr>
          <a:xfrm>
            <a:off x="5157720" y="1271520"/>
            <a:ext cx="3986280" cy="17575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по строкам 148-157 указываются по действующему образовательному документу, являющейся основанием для занятия соответствующей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509760" y="925560"/>
          <a:ext cx="8229600" cy="5645160"/>
        </p:xfrm>
        <a:graphic>
          <a:graphicData uri="http://schemas.openxmlformats.org/drawingml/2006/table">
            <a:tbl>
              <a:tblPr/>
              <a:tblGrid>
                <a:gridCol w="2813040"/>
                <a:gridCol w="715680"/>
                <a:gridCol w="470088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Бактериология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стология, Лабораторное дело, Лабораторная диагностика, </a:t>
                      </a:r>
                      <a:r>
                        <a:rPr b="1" lang="ru-RU" sz="14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лабораторное де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Бактериология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стология, Лабораторное дело, Лабораторная диагностика, </a:t>
                      </a:r>
                      <a:r>
                        <a:rPr b="1" lang="ru-RU" sz="14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лабораторное де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технолог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ктериолог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Лабораторное дело, Гистология,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, Медицинский технолог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ккредитация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лабораторное де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538"/>
          <p:cNvSpPr/>
          <p:nvPr/>
        </p:nvSpPr>
        <p:spPr>
          <a:xfrm>
            <a:off x="4054320" y="1762200"/>
            <a:ext cx="4683240" cy="4762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=169-170-171-172: бактериология, судебно-медицинская экспертиз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38"/>
          <p:cNvSpPr/>
          <p:nvPr/>
        </p:nvSpPr>
        <p:spPr>
          <a:xfrm>
            <a:off x="4054320" y="3605040"/>
            <a:ext cx="4685040" cy="5335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=173-174-175-176: бактериология, судебно-медицинская экспертиз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38"/>
          <p:cNvSpPr/>
          <p:nvPr/>
        </p:nvSpPr>
        <p:spPr>
          <a:xfrm>
            <a:off x="4054320" y="5489640"/>
            <a:ext cx="4685040" cy="72540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=204-205-206-207: бактериология, судебно-медицинская экспертиза, медицинский технолог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428760" y="752400"/>
          <a:ext cx="8442360" cy="5913360"/>
        </p:xfrm>
        <a:graphic>
          <a:graphicData uri="http://schemas.openxmlformats.org/drawingml/2006/table">
            <a:tbl>
              <a:tblPr/>
              <a:tblGrid>
                <a:gridCol w="1576080"/>
                <a:gridCol w="465480"/>
                <a:gridCol w="62676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64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400" spc="-1" strike="noStrike">
                          <a:solidFill>
                            <a:srgbClr val="a93561"/>
                          </a:solidFill>
                          <a:latin typeface="Times New Roman"/>
                          <a:ea typeface="Times New Roman"/>
                        </a:rPr>
                        <a:t>Разница (ошибка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9356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9356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gridSpan="11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Контроль скрытых строк!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 по строкам 1-2, 1-3, 45-47, 67-68, 69-70, 71-72, 73-74, 96-100, 109-110, 144-145, 144-157, 160-161, 162-163, 169-172, 173-176, 204-207, 208-212, 214-217, 224-226, 227-23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AutoShape 17"/>
          <p:cNvSpPr/>
          <p:nvPr/>
        </p:nvSpPr>
        <p:spPr>
          <a:xfrm>
            <a:off x="2448000" y="5113440"/>
            <a:ext cx="13762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55760" y="639720"/>
          <a:ext cx="8442000" cy="557856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ница между гр.9 и гр. 1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gridSpan="11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Контроль скрытых граф!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 по строкам 1-2, 1-3, 45-47, 67-68, 69-70, 71-72, 73-74, 96-100, 109-110, 144-145, 144-157, 160-161, 162-163, 169-172, 173-176, 204-207, 208-212, 214-217, 224-226, 227-23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5" name="AutoShape 17"/>
          <p:cNvSpPr/>
          <p:nvPr/>
        </p:nvSpPr>
        <p:spPr>
          <a:xfrm>
            <a:off x="7155000" y="3411360"/>
            <a:ext cx="556920" cy="812880"/>
          </a:xfrm>
          <a:custGeom>
            <a:avLst/>
            <a:gdLst>
              <a:gd name="textAreaLeft" fmla="*/ 27000 w 556920"/>
              <a:gd name="textAreaRight" fmla="*/ 529920 w 556920"/>
              <a:gd name="textAreaTop" fmla="*/ 27000 h 812880"/>
              <a:gd name="textAreaBottom" fmla="*/ 785880 h 812880"/>
            </a:gdLst>
            <a:ahLst/>
            <a:rect l="textAreaLeft" t="textAreaTop" r="textAreaRight" b="textAreaBottom"/>
            <a:pathLst>
              <a:path w="21600" h="31521">
                <a:moveTo>
                  <a:pt x="3600" y="0"/>
                </a:moveTo>
                <a:arcTo wR="3600" hR="3600" stAng="16200000" swAng="-5400000"/>
                <a:lnTo>
                  <a:pt x="0" y="27921"/>
                </a:lnTo>
                <a:arcTo wR="3600" hR="3600" stAng="10800000" swAng="-5400000"/>
                <a:lnTo>
                  <a:pt x="18000" y="31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лево 1"/>
          <p:cNvSpPr/>
          <p:nvPr/>
        </p:nvSpPr>
        <p:spPr>
          <a:xfrm>
            <a:off x="7711920" y="3017880"/>
            <a:ext cx="1390680" cy="159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68440" y="747720"/>
          <a:ext cx="8007120" cy="3876840"/>
        </p:xfrm>
        <a:graphic>
          <a:graphicData uri="http://schemas.openxmlformats.org/drawingml/2006/table">
            <a:tbl>
              <a:tblPr/>
              <a:tblGrid>
                <a:gridCol w="1087200"/>
                <a:gridCol w="516240"/>
                <a:gridCol w="671400"/>
                <a:gridCol w="744480"/>
                <a:gridCol w="595440"/>
                <a:gridCol w="669960"/>
                <a:gridCol w="596880"/>
                <a:gridCol w="669600"/>
                <a:gridCol w="817560"/>
                <a:gridCol w="819360"/>
                <a:gridCol w="819000"/>
              </a:tblGrid>
              <a:tr h="1004400">
                <a:tc rowSpan="3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00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68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ковы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64a72"/>
                          </a:solidFill>
                          <a:latin typeface="Times New Roman"/>
                          <a:ea typeface="Times New Roman"/>
                        </a:rPr>
                        <a:t>Разниц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64a72"/>
                          </a:solidFill>
                          <a:latin typeface="Times New Roman"/>
                          <a:ea typeface="Times New Roman"/>
                        </a:rPr>
                        <a:t>Стр. 67-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64a72"/>
                          </a:solidFill>
                          <a:latin typeface="Calibri"/>
                        </a:rPr>
                        <a:t>24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64a72"/>
                          </a:solidFill>
                          <a:latin typeface="Calibri"/>
                        </a:rPr>
                        <a:t>26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64a72"/>
                          </a:solidFill>
                          <a:latin typeface="Calibri"/>
                        </a:rPr>
                        <a:t>14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64a72"/>
                          </a:solidFill>
                          <a:latin typeface="Calibri"/>
                        </a:rPr>
                        <a:t>5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64a72"/>
                          </a:solidFill>
                          <a:latin typeface="Calibri"/>
                        </a:rPr>
                        <a:t>10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64a72"/>
                          </a:solidFill>
                          <a:latin typeface="Calibri"/>
                        </a:rPr>
                        <a:t>10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64a72"/>
                          </a:solidFill>
                          <a:latin typeface="Calibri"/>
                        </a:rPr>
                        <a:t>2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64a72"/>
                          </a:solidFill>
                          <a:latin typeface="Calibri"/>
                        </a:rPr>
                        <a:t>1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64a72"/>
                          </a:solidFill>
                          <a:latin typeface="Calibri"/>
                        </a:rPr>
                        <a:t>1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AutoShape 17"/>
          <p:cNvSpPr/>
          <p:nvPr/>
        </p:nvSpPr>
        <p:spPr>
          <a:xfrm>
            <a:off x="2259000" y="4294080"/>
            <a:ext cx="1201680" cy="4572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28880" y="4944960"/>
          <a:ext cx="5746680" cy="1320840"/>
        </p:xfrm>
        <a:graphic>
          <a:graphicData uri="http://schemas.openxmlformats.org/drawingml/2006/table">
            <a:tbl>
              <a:tblPr/>
              <a:tblGrid>
                <a:gridCol w="1660680"/>
                <a:gridCol w="787320"/>
                <a:gridCol w="1025640"/>
                <a:gridCol w="1136520"/>
                <a:gridCol w="1136520"/>
              </a:tblGrid>
              <a:tr h="3603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.3-5-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.4-6-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.9-10-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ковы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2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ница стр. 67-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,0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17"/>
          <p:cNvSpPr/>
          <p:nvPr/>
        </p:nvSpPr>
        <p:spPr>
          <a:xfrm>
            <a:off x="6489720" y="5376960"/>
            <a:ext cx="1739880" cy="10144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45"/>
          <p:cNvSpPr/>
          <p:nvPr/>
        </p:nvSpPr>
        <p:spPr>
          <a:xfrm>
            <a:off x="131760" y="5376960"/>
            <a:ext cx="2548080" cy="45720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силить контроль!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08080" y="717480"/>
          <a:ext cx="8629560" cy="5721480"/>
        </p:xfrm>
        <a:graphic>
          <a:graphicData uri="http://schemas.openxmlformats.org/drawingml/2006/table">
            <a:tbl>
              <a:tblPr/>
              <a:tblGrid>
                <a:gridCol w="1643040"/>
                <a:gridCol w="531720"/>
                <a:gridCol w="538200"/>
                <a:gridCol w="633240"/>
                <a:gridCol w="676440"/>
                <a:gridCol w="615960"/>
                <a:gridCol w="662040"/>
                <a:gridCol w="60156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.177 анестезисты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(семейных врачей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лавные медицинские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ст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е должности медицинских сесте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885"/>
          <p:cNvSpPr/>
          <p:nvPr/>
        </p:nvSpPr>
        <p:spPr>
          <a:xfrm>
            <a:off x="2516040" y="3365640"/>
            <a:ext cx="6321600" cy="3808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54500"/>
                </a:solidFill>
                <a:latin typeface="Times New Roman"/>
                <a:ea typeface="Arial"/>
              </a:rPr>
              <a:t>Строка 177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равна сумме строк с 178 по 19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85"/>
          <p:cNvSpPr/>
          <p:nvPr/>
        </p:nvSpPr>
        <p:spPr>
          <a:xfrm>
            <a:off x="2354400" y="5734080"/>
            <a:ext cx="6483240" cy="66024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54500"/>
                </a:solidFill>
                <a:latin typeface="Times New Roman"/>
                <a:ea typeface="Arial"/>
              </a:rPr>
              <a:t>Строку 199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еобходимо расшифровать по наименованию должносте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19240" y="217440"/>
          <a:ext cx="8691480" cy="62676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676440"/>
                <a:gridCol w="59976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оконченным фармацевтическим образованием или провизоры (из стр.21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245"/>
          <p:cNvSpPr/>
          <p:nvPr/>
        </p:nvSpPr>
        <p:spPr>
          <a:xfrm>
            <a:off x="2614680" y="2833560"/>
            <a:ext cx="6296040" cy="45720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4500"/>
                </a:solidFill>
                <a:latin typeface="Times New Roman"/>
                <a:ea typeface="Arial"/>
              </a:rPr>
              <a:t>Строка 219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равна сумме строк 220 и 22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49"/>
          <p:cNvSpPr/>
          <p:nvPr/>
        </p:nvSpPr>
        <p:spPr>
          <a:xfrm>
            <a:off x="2541600" y="3684600"/>
            <a:ext cx="6383160" cy="12034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</a:t>
            </a:r>
            <a:r>
              <a:rPr b="1" lang="ru-RU" sz="1800" spc="-1" strike="noStrike">
                <a:solidFill>
                  <a:srgbClr val="754500"/>
                </a:solidFill>
                <a:latin typeface="Times New Roman"/>
                <a:ea typeface="Arial"/>
              </a:rPr>
              <a:t>строке 22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казываются сведения в случае, если такие организации есть в подчинении субъекта или в федеральном подчинении. Провести сверку с формой №47. Обратите внимание н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ехнические ошибки!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49"/>
          <p:cNvSpPr/>
          <p:nvPr/>
        </p:nvSpPr>
        <p:spPr>
          <a:xfrm>
            <a:off x="2614680" y="5084640"/>
            <a:ext cx="6337080" cy="12034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</a:t>
            </a:r>
            <a:r>
              <a:rPr b="1" lang="ru-RU" sz="1800" spc="-1" strike="noStrike">
                <a:solidFill>
                  <a:srgbClr val="754500"/>
                </a:solidFill>
                <a:latin typeface="Times New Roman"/>
                <a:ea typeface="Arial"/>
              </a:rPr>
              <a:t>строке 223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казываются сведения о лицах с высшим неоконченным образованием, занимающих должность фармацевт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230040" y="173160"/>
          <a:ext cx="8697960" cy="6570720"/>
        </p:xfrm>
        <a:graphic>
          <a:graphicData uri="http://schemas.openxmlformats.org/drawingml/2006/table">
            <a:tbl>
              <a:tblPr/>
              <a:tblGrid>
                <a:gridCol w="1803600"/>
                <a:gridCol w="469800"/>
                <a:gridCol w="4636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дезинфек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нструкторы по трудовой терап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иалисты в неокон-              ченным высшим образованием или врачи. Из стр. 236 -  студ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885"/>
          <p:cNvSpPr/>
          <p:nvPr/>
        </p:nvSpPr>
        <p:spPr>
          <a:xfrm>
            <a:off x="2432160" y="2736720"/>
            <a:ext cx="6495840" cy="135576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54500"/>
                </a:solidFill>
                <a:latin typeface="Times New Roman"/>
                <a:ea typeface="Times New Roman"/>
              </a:rPr>
              <a:t>В 9,10,11 и 17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медицинских регистраторов, медицинских дезинфекторов, инструкторов по лечебной физкультуре и другие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тные и занятые 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ываются в графах с 3 по 8 по соответствующим строкам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85"/>
          <p:cNvSpPr/>
          <p:nvPr/>
        </p:nvSpPr>
        <p:spPr>
          <a:xfrm>
            <a:off x="2522520" y="4419720"/>
            <a:ext cx="6405480" cy="60300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54500"/>
                </a:solidFill>
                <a:latin typeface="Times New Roman"/>
                <a:ea typeface="Times New Roman"/>
              </a:rPr>
              <a:t>Строка 236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сумме строк с 237 по 241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 241 «прочие» - расшифровать по наименованию должностей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85"/>
          <p:cNvSpPr/>
          <p:nvPr/>
        </p:nvSpPr>
        <p:spPr>
          <a:xfrm>
            <a:off x="2508120" y="5792760"/>
            <a:ext cx="6405840" cy="9511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54500"/>
                </a:solidFill>
                <a:latin typeface="Times New Roman"/>
                <a:ea typeface="Times New Roman"/>
              </a:rPr>
              <a:t>Строке 24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вается из строки 236.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если специалист с неоконченным образованием занимает должность медицинского регистратора, то он покажется в строке 237 и 242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565200"/>
            <a:ext cx="790884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4500"/>
                </a:solidFill>
                <a:latin typeface="Arial"/>
              </a:rPr>
              <a:t>Трудоустройство студ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03200"/>
            <a:ext cx="822960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ом Минздрава РФ от 27.06.2016 N 419н утвержден </a:t>
            </a:r>
            <a:r>
              <a:rPr b="0" lang="ru-RU" sz="1800" spc="-1" strike="noStrike" u="sng">
                <a:solidFill>
                  <a:srgbClr val="5f9e12"/>
                </a:solidFill>
                <a:uFillTx/>
                <a:latin typeface="Times New Roman"/>
                <a:hlinkClick r:id="rId1"/>
              </a:rPr>
              <a:t>Поряд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пуска лиц к осуществлению медицинской (фармацевтической) деятельности на должностях среднего медицинского (фармацевтического) персонала, в соответствии с которым лиц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завершившие освоение образовательных программ высшего медицинского (фармацевтического) образования, могут быть приняты на работу на указанные должности при налич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правки об обучении или о периоде обучения, подтверждающей освоение образовательной программы в необходимом объеме и по специа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ложительного результата сдачи экзамена по допуску к осуществлению медицинской (фармацевтической) деятельности (проводится в образовательном учрежден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лица с незаконченным высшим образованием, освоившие образовательную программу высшего медицинского образования по специальностям "Лечебное дело", "Педиатрия", "Медико-профилактическое дело", "Стоматология"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объеме трех курс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более или по направлению подготовки "Сестринское дело"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объеме двух курс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более либо имеющие диплом специалиста (диплом бакалавра) по специальности "Лечебное дело", "Педиатрия", "Медико-профилактическое дело", "Сестринское дело" или "Стоматология"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гут быть приняты на работу в качестве </a:t>
            </a:r>
            <a:r>
              <a:rPr b="1" lang="ru-RU" sz="1800" spc="-1" strike="noStrike">
                <a:solidFill>
                  <a:srgbClr val="754500"/>
                </a:solidFill>
                <a:latin typeface="Times New Roman"/>
              </a:rPr>
              <a:t>медицинской сестры (медбрата), в том числе палатной, перевязочной, процедурной, по приему вызовов скорой медицинской помощи, приемного отделения, участковой, медицинского регистратора, помощник врача, фармацевт и гигиенист стоматологиче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73040" y="563400"/>
          <a:ext cx="8229600" cy="4842000"/>
        </p:xfrm>
        <a:graphic>
          <a:graphicData uri="http://schemas.openxmlformats.org/drawingml/2006/table">
            <a:tbl>
              <a:tblPr/>
              <a:tblGrid>
                <a:gridCol w="2011320"/>
                <a:gridCol w="3678480"/>
                <a:gridCol w="2539800"/>
              </a:tblGrid>
              <a:tr h="557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тет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Педиатр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я/</a:t>
                      </a:r>
                      <a:r>
                        <a:rPr b="1" lang="ru-RU" sz="1600" spc="-1" strike="noStrike">
                          <a:solidFill>
                            <a:srgbClr val="b06800"/>
                          </a:solidFill>
                          <a:latin typeface="Times New Roman"/>
                          <a:ea typeface="Times New Roman"/>
                        </a:rPr>
                        <a:t>Врач невроло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12891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коло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пециалитет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ечебное дело, Педиатр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ли интернатура/ординатура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Терапия, Хирург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кология/ </a:t>
                      </a:r>
                      <a:r>
                        <a:rPr b="1" lang="ru-RU" sz="1600" spc="-1" strike="noStrike">
                          <a:solidFill>
                            <a:srgbClr val="b06800"/>
                          </a:solidFill>
                          <a:latin typeface="Times New Roman"/>
                          <a:ea typeface="Times New Roman"/>
                        </a:rPr>
                        <a:t>Врач онколо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29955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пециалитет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ечебное дело, Педиатр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ли интернатура/ординатура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ая онкология, Детская урология-андрология, Детская хирургия, Колопроктология, Нейрохирургия, Онкология, Пластическая хирургия, Сердечно-сосудистая хирургия, Судебно-медицинская экспертиза, Торакальная хирургия, Травматология и ортопедия, Урология, Хирургия, Челюстно-лицевая хирург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ая анатом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</a:tbl>
          </a:graphicData>
        </a:graphic>
      </p:graphicFrame>
      <p:pic>
        <p:nvPicPr>
          <p:cNvPr id="69" name="Group 3" descr=""/>
          <p:cNvPicPr/>
          <p:nvPr/>
        </p:nvPicPr>
        <p:blipFill>
          <a:blip r:embed="rId1"/>
          <a:stretch/>
        </p:blipFill>
        <p:spPr>
          <a:xfrm>
            <a:off x="407880" y="5499000"/>
            <a:ext cx="836460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33280" y="-84240"/>
          <a:ext cx="8720280" cy="6729480"/>
        </p:xfrm>
        <a:graphic>
          <a:graphicData uri="http://schemas.openxmlformats.org/drawingml/2006/table">
            <a:tbl>
              <a:tblPr/>
              <a:tblGrid>
                <a:gridCol w="2855880"/>
                <a:gridCol w="527040"/>
                <a:gridCol w="1400400"/>
                <a:gridCol w="788760"/>
                <a:gridCol w="781200"/>
                <a:gridCol w="782640"/>
                <a:gridCol w="803160"/>
                <a:gridCol w="781200"/>
              </a:tblGrid>
              <a:tr h="4568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без медицинского образования занимающих должности среднего медицинского персонала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68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68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108"/>
          <p:cNvSpPr/>
          <p:nvPr/>
        </p:nvSpPr>
        <p:spPr>
          <a:xfrm>
            <a:off x="3678120" y="3406680"/>
            <a:ext cx="5275440" cy="73980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31 – промежуточный итог (без учета строк 232 и 236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"/>
          <p:cNvSpPr/>
          <p:nvPr/>
        </p:nvSpPr>
        <p:spPr>
          <a:xfrm>
            <a:off x="3589200" y="5173560"/>
            <a:ext cx="5364360" cy="1471680"/>
          </a:xfrm>
          <a:prstGeom prst="rect">
            <a:avLst/>
          </a:prstGeom>
          <a:solidFill>
            <a:srgbClr val="b06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43 – Итоговые значения по должностям с учетом строк 232 и 236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по штатным и занятым должностям должны быть равны по строкам 231 и 243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542960" y="32868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Таблица 1104 Новая таблиц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2880" y="727200"/>
          <a:ext cx="8298000" cy="5506920"/>
        </p:xfrm>
        <a:graphic>
          <a:graphicData uri="http://schemas.openxmlformats.org/drawingml/2006/table">
            <a:tbl>
              <a:tblPr/>
              <a:tblGrid>
                <a:gridCol w="4633920"/>
                <a:gridCol w="509760"/>
                <a:gridCol w="1295280"/>
                <a:gridCol w="1025640"/>
                <a:gridCol w="833400"/>
              </a:tblGrid>
              <a:tr h="318240"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амбулатори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-ческ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м немедицинским образованием, занимающи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враче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без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го образования, занимающи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среднего медицинского персонал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108"/>
          <p:cNvSpPr/>
          <p:nvPr/>
        </p:nvSpPr>
        <p:spPr>
          <a:xfrm>
            <a:off x="5781600" y="2357280"/>
            <a:ext cx="2492280" cy="255600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казываются штатные должности входящих в состав и самостоятельных ВА (не забываем про амбулатории в составе участковых больниц)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одить контроль с их наличием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 30, таблица 1001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58720" y="1434960"/>
          <a:ext cx="8255160" cy="4656240"/>
        </p:xfrm>
        <a:graphic>
          <a:graphicData uri="http://schemas.openxmlformats.org/drawingml/2006/table">
            <a:tbl>
              <a:tblPr/>
              <a:tblGrid>
                <a:gridCol w="4079880"/>
                <a:gridCol w="466920"/>
                <a:gridCol w="1030320"/>
                <a:gridCol w="784080"/>
                <a:gridCol w="833400"/>
                <a:gridCol w="1060560"/>
              </a:tblGrid>
              <a:tr h="98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организации медицинской помощи несовершеннолетним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разовательных организация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-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-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-ских лиц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тделений организации медицинской помощи несовершеннолетним в образовательных организация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1100, стр. 1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сельской мест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1100, стр. 3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гигиене детей и подростков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1100, стр. 5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1100, стр. 144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сельской мест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1100, стр. 145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2"/>
          <p:cNvSpPr/>
          <p:nvPr/>
        </p:nvSpPr>
        <p:spPr>
          <a:xfrm>
            <a:off x="1428840" y="76680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Таблица 1106 Новая таблиц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8"/>
          <p:cNvSpPr/>
          <p:nvPr/>
        </p:nvSpPr>
        <p:spPr>
          <a:xfrm>
            <a:off x="5297400" y="4379760"/>
            <a:ext cx="2973600" cy="16941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54500"/>
                </a:solidFill>
                <a:latin typeface="Times New Roman"/>
                <a:ea typeface="Arial"/>
              </a:rPr>
              <a:t>В стр.7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ются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изоры,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фармацевты,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младший медицинский и прочий немедицинский персона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08"/>
          <p:cNvSpPr/>
          <p:nvPr/>
        </p:nvSpPr>
        <p:spPr>
          <a:xfrm>
            <a:off x="5297400" y="2703600"/>
            <a:ext cx="2973600" cy="118728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54500"/>
                </a:solidFill>
                <a:latin typeface="Times New Roman"/>
                <a:ea typeface="Arial"/>
              </a:rPr>
              <a:t>стр. 2 + 5 +7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 всего должностей и физических лиц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5680" y="267840"/>
            <a:ext cx="7908840" cy="77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язательная дополнительная информация к таблице 1100 (Пояснительны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бъект 2"/>
          <p:cNvSpPr/>
          <p:nvPr/>
        </p:nvSpPr>
        <p:spPr>
          <a:xfrm>
            <a:off x="395280" y="1047600"/>
            <a:ext cx="82296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фровка стр.122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очие врачи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фровка разницы строк 169 –(170+171+172)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Лаборанты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фровка разницы строк 173–(174+175+176)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Медицинские лабораторные техники (фельдшеры-лаборанты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фровка разницы строк 204–(205+206+207)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Медицинские технологи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фровка стр.199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очие должности медицинских сестер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фровка стр.218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очий средний медицинский персона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фровка разницы строк 232 –(233+235+236)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лица с высшим немедицинским образованием, занимающих должности врачей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фровка стр.241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лица, без медицинского образования. Занимающих должности среднего медицинского персонала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5680" y="268200"/>
            <a:ext cx="7908840" cy="164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ости формирования т.1100 по медицинским организациям, оказывающих медицинскую помощь, связанной со случаями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бъект 2"/>
          <p:cNvSpPr/>
          <p:nvPr/>
        </p:nvSpPr>
        <p:spPr>
          <a:xfrm>
            <a:off x="268200" y="190980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уется на 31.12.2020 с учетом временного штатного расписания, которое утверждается в соответствии с установленными требованиям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ываются установленные требования при занятии определенной должности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ые </a:t>
            </a:r>
            <a:r>
              <a:rPr b="1" i="1" lang="ru-RU" sz="1800" spc="-1" strike="noStrike">
                <a:solidFill>
                  <a:srgbClr val="754500"/>
                </a:solidFill>
                <a:latin typeface="Times New Roman"/>
                <a:ea typeface="Times New Roman"/>
              </a:rPr>
              <a:t>требованиям к медицинским и фармацевтическим работникам с высшим образованием или среднее профессиональное образование, соответствующее квалификационным требованиям к медицинским и фармацевтическим работникам со средним медицинским и фармацевтическим образованием, допущенные к осуществлению медицинской деятельности в порядке, установленном законодательством Российской Федерации)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Arial"/>
              </a:rPr>
              <a:t>ПРИКАЗ МИНИСТЕРСТВА ЗДРАВООХРАНЕНИЯ РОССИЙСКОЙ ФЕДЕРАЦИИ от 19 марта 2020 г. N 198н О ВРЕМЕННОМ ПОРЯДКЕ ОРГАНИЗАЦИИ РАБОТЫ МЕДИЦИНСКИХ ОРГАНИЗАЦИЙ В ЦЕЛЯХ РЕАЛИЗАЦИИ МЕР ПО ПРОФИЛАКТИКЕ И СНИЖЕНИЮ РИСКОВ РАСПРОСТРАНЕНИЯ НОВОЙ КОРОНАВИРУСНОЙ ИНФЕКЦИИ COVID-19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3240" y="628560"/>
            <a:ext cx="7909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Сверка т.1100 с данными федерального регистра медицинских работников (ФРМР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0200" y="2641680"/>
          <a:ext cx="8856720" cy="2141280"/>
        </p:xfrm>
        <a:graphic>
          <a:graphicData uri="http://schemas.openxmlformats.org/drawingml/2006/table">
            <a:tbl>
              <a:tblPr/>
              <a:tblGrid>
                <a:gridCol w="608040"/>
                <a:gridCol w="696960"/>
                <a:gridCol w="754200"/>
                <a:gridCol w="941400"/>
                <a:gridCol w="834840"/>
                <a:gridCol w="922320"/>
                <a:gridCol w="1190880"/>
                <a:gridCol w="1285560"/>
                <a:gridCol w="852840"/>
                <a:gridCol w="769680"/>
              </a:tblGrid>
              <a:tr h="300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Российской Федер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медицинской организ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отрудник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и и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изо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мацев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91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3"/>
          <p:cNvSpPr/>
          <p:nvPr/>
        </p:nvSpPr>
        <p:spPr>
          <a:xfrm>
            <a:off x="160200" y="1943280"/>
            <a:ext cx="86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об эксплуатации ФРМР на 31.12.2020 г. по сведениям о трудоустройстве по перечню организаций, заведенных в регистр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160200" y="4896000"/>
            <a:ext cx="3017880" cy="1704960"/>
          </a:xfrm>
          <a:prstGeom prst="rect">
            <a:avLst/>
          </a:prstGeom>
          <a:solidFill>
            <a:srgbClr val="b06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, всего в отчете ФРМР на 31.12.2020г. должно соответствовать сумме строк (1+143+217+139+213) по графе 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5"/>
          <p:cNvSpPr/>
          <p:nvPr/>
        </p:nvSpPr>
        <p:spPr>
          <a:xfrm>
            <a:off x="3249720" y="4896000"/>
            <a:ext cx="5592600" cy="1704960"/>
          </a:xfrm>
          <a:prstGeom prst="rect">
            <a:avLst/>
          </a:prstGeom>
          <a:solidFill>
            <a:srgbClr val="b06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 врачей, СМП, МПП, провизоров, фармацевтов в отчете ФРМР должно соответствовать стр. 1,143, 217, 139, 213 гр.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6"/>
          <p:cNvCxnSpPr/>
          <p:nvPr/>
        </p:nvCxnSpPr>
        <p:spPr>
          <a:xfrm>
            <a:off x="3578040" y="4367160"/>
            <a:ext cx="1080" cy="618480"/>
          </a:xfrm>
          <a:prstGeom prst="straightConnector1">
            <a:avLst/>
          </a:prstGeom>
          <a:ln w="76320">
            <a:solidFill>
              <a:srgbClr val="732341"/>
            </a:solidFill>
            <a:miter/>
            <a:tailEnd len="med" type="triangle" w="med"/>
          </a:ln>
        </p:spPr>
      </p:cxnSp>
      <p:cxnSp>
        <p:nvCxnSpPr>
          <p:cNvPr id="195" name="Прямая со стрелкой 14"/>
          <p:cNvCxnSpPr/>
          <p:nvPr/>
        </p:nvCxnSpPr>
        <p:spPr>
          <a:xfrm>
            <a:off x="8648280" y="4367160"/>
            <a:ext cx="1080" cy="618480"/>
          </a:xfrm>
          <a:prstGeom prst="straightConnector1">
            <a:avLst/>
          </a:prstGeom>
          <a:ln w="76320">
            <a:solidFill>
              <a:srgbClr val="732341"/>
            </a:solidFill>
            <a:miter/>
            <a:tailEnd len="med" type="triangle" w="med"/>
          </a:ln>
        </p:spPr>
      </p:cxnSp>
      <p:cxnSp>
        <p:nvCxnSpPr>
          <p:cNvPr id="196" name="Прямая со стрелкой 15"/>
          <p:cNvCxnSpPr/>
          <p:nvPr/>
        </p:nvCxnSpPr>
        <p:spPr>
          <a:xfrm>
            <a:off x="7814880" y="4367160"/>
            <a:ext cx="1080" cy="618480"/>
          </a:xfrm>
          <a:prstGeom prst="straightConnector1">
            <a:avLst/>
          </a:prstGeom>
          <a:ln w="76320">
            <a:solidFill>
              <a:srgbClr val="732341"/>
            </a:solidFill>
            <a:miter/>
            <a:tailEnd len="med" type="triangle" w="med"/>
          </a:ln>
        </p:spPr>
      </p:cxnSp>
      <p:cxnSp>
        <p:nvCxnSpPr>
          <p:cNvPr id="197" name="Прямая со стрелкой 16"/>
          <p:cNvCxnSpPr/>
          <p:nvPr/>
        </p:nvCxnSpPr>
        <p:spPr>
          <a:xfrm>
            <a:off x="6741720" y="4367160"/>
            <a:ext cx="1080" cy="618480"/>
          </a:xfrm>
          <a:prstGeom prst="straightConnector1">
            <a:avLst/>
          </a:prstGeom>
          <a:ln w="76320">
            <a:solidFill>
              <a:srgbClr val="732341"/>
            </a:solidFill>
            <a:miter/>
            <a:tailEnd len="med" type="triangle" w="med"/>
          </a:ln>
        </p:spPr>
      </p:cxnSp>
      <p:cxnSp>
        <p:nvCxnSpPr>
          <p:cNvPr id="198" name="Прямая со стрелкой 17"/>
          <p:cNvCxnSpPr/>
          <p:nvPr/>
        </p:nvCxnSpPr>
        <p:spPr>
          <a:xfrm>
            <a:off x="5509800" y="4367160"/>
            <a:ext cx="1080" cy="618480"/>
          </a:xfrm>
          <a:prstGeom prst="straightConnector1">
            <a:avLst/>
          </a:prstGeom>
          <a:ln w="76320">
            <a:solidFill>
              <a:srgbClr val="732341"/>
            </a:solidFill>
            <a:miter/>
            <a:tailEnd len="med" type="triangle" w="med"/>
          </a:ln>
        </p:spPr>
      </p:cxnSp>
      <p:cxnSp>
        <p:nvCxnSpPr>
          <p:cNvPr id="199" name="Прямая со стрелкой 18"/>
          <p:cNvCxnSpPr/>
          <p:nvPr/>
        </p:nvCxnSpPr>
        <p:spPr>
          <a:xfrm>
            <a:off x="2669760" y="4367160"/>
            <a:ext cx="1080" cy="618480"/>
          </a:xfrm>
          <a:prstGeom prst="straightConnector1">
            <a:avLst/>
          </a:prstGeom>
          <a:ln w="76320">
            <a:solidFill>
              <a:srgbClr val="73234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5680" y="267840"/>
            <a:ext cx="7908840" cy="77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ы для направления вопросов, пояснительных записок, расшифрово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бъект 2"/>
          <p:cNvSpPr/>
          <p:nvPr/>
        </p:nvSpPr>
        <p:spPr>
          <a:xfrm>
            <a:off x="395280" y="1047600"/>
            <a:ext cx="82296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vchenko@miac.nnov.ru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лефон (831)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435-57-48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+7 920-257-79-71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46200" y="1090440"/>
          <a:ext cx="8150040" cy="3894480"/>
        </p:xfrm>
        <a:graphic>
          <a:graphicData uri="http://schemas.openxmlformats.org/drawingml/2006/table">
            <a:tbl>
              <a:tblPr/>
              <a:tblGrid>
                <a:gridCol w="1992240"/>
                <a:gridCol w="3641760"/>
                <a:gridCol w="2516040"/>
              </a:tblGrid>
              <a:tr h="12891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тет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Педиатр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интернатура/ординатура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рачебная практика (семейная медицина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я/Врач-педиатр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12891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городской (районный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тет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Педиатр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интернатура/ординатура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рачебная практика (семейная медицина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я/Врач-педиатр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13161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участковы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те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Педиатр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интернатура/ординатура: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рачебная практика (семейная медицина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я/</a:t>
                      </a:r>
                      <a:r>
                        <a:rPr b="1" lang="ru-RU" sz="1600" spc="-1" strike="noStrike">
                          <a:solidFill>
                            <a:srgbClr val="b06800"/>
                          </a:solidFill>
                          <a:latin typeface="Times New Roman"/>
                          <a:ea typeface="Times New Roman"/>
                        </a:rPr>
                        <a:t>Педиатр участковы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</a:tbl>
          </a:graphicData>
        </a:graphic>
      </p:graphicFrame>
      <p:pic>
        <p:nvPicPr>
          <p:cNvPr id="71" name="Group 3" descr=""/>
          <p:cNvPicPr/>
          <p:nvPr/>
        </p:nvPicPr>
        <p:blipFill>
          <a:blip r:embed="rId1"/>
          <a:stretch/>
        </p:blipFill>
        <p:spPr>
          <a:xfrm>
            <a:off x="438120" y="526104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одзаголовок 2"/>
          <p:cNvSpPr/>
          <p:nvPr/>
        </p:nvSpPr>
        <p:spPr>
          <a:xfrm>
            <a:off x="865080" y="301680"/>
            <a:ext cx="75916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нятие должности на основании: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47840" y="1155600"/>
          <a:ext cx="8424720" cy="1190880"/>
        </p:xfrm>
        <a:graphic>
          <a:graphicData uri="http://schemas.openxmlformats.org/drawingml/2006/table">
            <a:tbl>
              <a:tblPr/>
              <a:tblGrid>
                <a:gridCol w="1266840"/>
                <a:gridCol w="3912840"/>
                <a:gridCol w="3245040"/>
              </a:tblGrid>
              <a:tr h="11908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тет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Педиатрия, Стоматология, Медико-профилактическое дел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интернатура/ординатура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дной из основных специальносте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Социальная гигиена и организация госсанэпидслужбы,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Управление сестринской деятельностью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47840" y="2471760"/>
          <a:ext cx="8424720" cy="2286000"/>
        </p:xfrm>
        <a:graphic>
          <a:graphicData uri="http://schemas.openxmlformats.org/drawingml/2006/table">
            <a:tbl>
              <a:tblPr/>
              <a:tblGrid>
                <a:gridCol w="1109520"/>
                <a:gridCol w="1119240"/>
                <a:gridCol w="6195960"/>
              </a:tblGrid>
              <a:tr h="228600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е-нно специаль-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Анестезиология-реаниматология, Гастроэнтерология, Гематология, Гериатрия, Дерматовенерология, Детская кардиология, Детская онкология, Детская урология-андрология, Детская хирургия, Детская эндокринология, Инфекционные болезни, Кардиология,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47840" y="4884840"/>
          <a:ext cx="8394480" cy="1846080"/>
        </p:xfrm>
        <a:graphic>
          <a:graphicData uri="http://schemas.openxmlformats.org/drawingml/2006/table">
            <a:tbl>
              <a:tblPr/>
              <a:tblGrid>
                <a:gridCol w="1114200"/>
                <a:gridCol w="3942000"/>
                <a:gridCol w="3338280"/>
              </a:tblGrid>
              <a:tr h="13492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тет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Педиатрия, Стоматология, Медико-профилактическое дел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интернатура/ординатура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дной из основных специальносте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Социальная гигиена и организация госсанэпидслужбы,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Управление сестринской деятельностью/Врач статистик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49680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тет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Стоматология, Стоматология общей практики/Врач стомат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одзаголовок 2"/>
          <p:cNvSpPr/>
          <p:nvPr/>
        </p:nvSpPr>
        <p:spPr>
          <a:xfrm>
            <a:off x="801720" y="657360"/>
            <a:ext cx="75898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едний медицинский персона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1500120"/>
          <a:ext cx="8126280" cy="4633920"/>
        </p:xfrm>
        <a:graphic>
          <a:graphicData uri="http://schemas.openxmlformats.org/drawingml/2006/table">
            <a:tbl>
              <a:tblPr/>
              <a:tblGrid>
                <a:gridCol w="1985760"/>
                <a:gridCol w="3178080"/>
                <a:gridCol w="2962440"/>
              </a:tblGrid>
              <a:tr h="89712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сестра приемного отделен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Акушерское дело, Сестрин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Сестринское дело, Сестринское дело в педиатрии/Медицинская сестра приемного отделен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8110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сестра процедурно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Акушерское дело, Сестрин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Сестринское дело, Сестринское дело в педиатр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8128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сестра по реабил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Акушерское дело, Сестрин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Реабилитационное сестрин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105732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сестра стерилизационно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Акушерское дело, Сестрин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Сестринское дело/Медицинская сестра стерилизационно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  <a:tr h="105552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сестра участкова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е дело, Акушерское дело, Сестринск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54500"/>
                          </a:solidFill>
                          <a:latin typeface="Times New Roman"/>
                          <a:ea typeface="Times New Roman"/>
                        </a:rPr>
                        <a:t>Сестринское дело, Сестринское дело в педиатрии/Медицинская сестра участкова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ea8b00"/>
                      </a:solidFill>
                    </a:lnL>
                    <a:lnR w="5760">
                      <a:solidFill>
                        <a:srgbClr val="ea8b00"/>
                      </a:solidFill>
                    </a:lnR>
                    <a:lnT w="5760">
                      <a:solidFill>
                        <a:srgbClr val="ea8b00"/>
                      </a:solidFill>
                    </a:lnT>
                    <a:lnB w="5760">
                      <a:solidFill>
                        <a:srgbClr val="ea8b00"/>
                      </a:solidFill>
                    </a:lnB>
                    <a:solidFill>
                      <a:srgbClr val="e8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50760" y="443664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виду наличия множества технических ошибок, допущенных по сведениям об аккредитации специалистов, необходимо усилить контроль за достоверностью представления данных медицинскими организа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дзаголовок 2"/>
          <p:cNvSpPr/>
          <p:nvPr/>
        </p:nvSpPr>
        <p:spPr>
          <a:xfrm>
            <a:off x="858960" y="376200"/>
            <a:ext cx="75898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кредитация 202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58960" y="1028880"/>
            <a:ext cx="7864200" cy="34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6800"/>
                </a:solidFill>
                <a:latin typeface="Times New Roman"/>
                <a:ea typeface="Times New Roman"/>
              </a:rPr>
              <a:t>Врачи:</a:t>
            </a:r>
            <a:r>
              <a:rPr b="0" lang="ru-RU" sz="1800" spc="-1" strike="noStrike">
                <a:solidFill>
                  <a:srgbClr val="b06800"/>
                </a:solidFill>
                <a:latin typeface="Times New Roman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2020 года аккредитацию проходят те, кто после 1 января 2020 года получил высшее образование по основным образовательным программам "Здравоохранение и медицинские науки" (уровень бакалавриата, ординатуры)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ца, завершившие освоение программ подготовки кадров высшей квалификации и дополнительных профессиональных программ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специализированная аккредитация дополнена 6 специальностями: акушерство и гинекология, анестезиология-реаниматология, пульмонология, инфекционные болезни, клиническая фармакология, организация здравоохранения и общественное здоровь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специалист со свидетельством об аккредитации может быть показан в отчете за 2020 год по любой врачебной должност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23800" y="1227240"/>
            <a:ext cx="839952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ИСТЕРСТВО ЗДРАВООХРАНЕНИЯ РОССИЙСКОЙ ФЕДЕРАЦИИ ПРИКАЗ от 22 декабря 2017 г. N 1043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4700"/>
                </a:solidFill>
                <a:latin typeface="Arial"/>
              </a:rPr>
              <a:t>ОБ УТВЕРЖДЕНИИ СРОКОВ И ЭТАПОВ АККРЕДИТАЦИИ СПЕЦИАЛИСТОВ, А ТАКЖЕ КАТЕГОРИЙ ЛИЦ, ИМЕ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4700"/>
                </a:solidFill>
                <a:latin typeface="Arial"/>
              </a:rPr>
              <a:t>МЕДИЦИНСКОЕ, ФАРМАЦЕВТИЧЕСКОЕ ИЛИ ИНОЕ ОБРАЗОВАНИЕ И ПОДЛЕЖАЩИХ АККРЕДИТАЦИИ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290520"/>
            <a:ext cx="759636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списка сотрудников, имеющих удостоверение об аккредит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792000" y="1484280"/>
            <a:ext cx="8352000" cy="50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4" name="Прямоугольная выноска 2"/>
          <p:cNvSpPr/>
          <p:nvPr/>
        </p:nvSpPr>
        <p:spPr>
          <a:xfrm>
            <a:off x="684360" y="5516640"/>
            <a:ext cx="1800000" cy="576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af8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8b00"/>
                </a:solidFill>
                <a:latin typeface="Arial"/>
              </a:rPr>
              <a:t>Диапазон дат -  с 2016 года по  настоящее врем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5"/>
          <p:cNvSpPr/>
          <p:nvPr/>
        </p:nvSpPr>
        <p:spPr>
          <a:xfrm>
            <a:off x="755640" y="6381720"/>
            <a:ext cx="1368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940360" y="1665360"/>
            <a:ext cx="2808360" cy="1585800"/>
          </a:xfrm>
          <a:prstGeom prst="rect">
            <a:avLst/>
          </a:prstGeom>
          <a:solidFill>
            <a:srgbClr val="8dc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ату проведения аккредитации в диапазон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атус работника –работающ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ип занятия должности – основная должнос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2916360" y="615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9"/>
          <p:cNvSpPr/>
          <p:nvPr/>
        </p:nvSpPr>
        <p:spPr>
          <a:xfrm>
            <a:off x="6164280" y="4105440"/>
            <a:ext cx="360360" cy="7272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10"/>
          <p:cNvSpPr/>
          <p:nvPr/>
        </p:nvSpPr>
        <p:spPr>
          <a:xfrm>
            <a:off x="6164280" y="430200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2"/>
          <p:cNvSpPr/>
          <p:nvPr/>
        </p:nvSpPr>
        <p:spPr>
          <a:xfrm>
            <a:off x="4788000" y="430200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3" descr=""/>
          <p:cNvPicPr/>
          <p:nvPr/>
        </p:nvPicPr>
        <p:blipFill>
          <a:blip r:embed="rId2"/>
          <a:stretch/>
        </p:blipFill>
        <p:spPr>
          <a:xfrm>
            <a:off x="4788000" y="4437000"/>
            <a:ext cx="811080" cy="30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4"/>
          <p:cNvSpPr/>
          <p:nvPr/>
        </p:nvSpPr>
        <p:spPr>
          <a:xfrm>
            <a:off x="5884920" y="39434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5877000" y="418932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Шевченко Татьяна Борисовна</cp:lastModifiedBy>
  <cp:lastPrinted>2020-11-23T10:28:13Z</cp:lastPrinted>
  <dcterms:modified xsi:type="dcterms:W3CDTF">2020-12-28T06:56:44Z</dcterms:modified>
  <cp:revision>1270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