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882C-724C-4A29-AA40-EF758C5E7E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48C5-2707-4092-91FD-C80B265F80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EB93-E39B-462A-A894-51A7901768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24AF-67DF-4C72-91D9-F8281901A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FF4F-80E5-4D88-853D-D9762BCF96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A20D-CFBE-460F-8225-D5D0B48CD9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200F-B48A-4393-8395-899C69B4B5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D848-528B-4FC5-BCA8-D62E69E5EE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122A-4082-492D-B87D-3D64DFDA9D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1698-8C4F-4EEB-B4EC-80D5F58A95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927B-AAAA-4503-B4E2-34F610A27F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B254-D1D5-4BCB-8481-FAE1863D24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3807-916D-4CDD-8432-CAB3721C6B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D745-06DF-45F6-80BA-901A48151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EF59-FE79-4122-99A0-C243ED3CE9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4D35-E433-4F8B-AA99-C001EEBCC5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F133-B883-4B14-A8FA-05701569D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3909-333F-41EA-BAA1-CE8D833865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65C1-12DC-4434-8738-F346C3133A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F98B-8D6A-4305-BAC9-9065EBAA36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1739-8DEE-41CA-BD75-0F3A78761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0E47-A72C-4504-84D3-52B0AAAFF2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3FE5-885C-4943-8BB7-3B48BE56E8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3959-EDF5-4825-B62B-3E6F58D5D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B78B-DDAE-4248-9CCB-5F92FD670D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8504-620E-4F27-BCBC-121999E226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D215-A15A-4743-BC97-56C952FC5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E52B-90B4-4D66-8FEE-3FF460F0CD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AA0F-D836-4ACA-932E-D792CF27C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FE15-E531-4164-B7FF-C17844C13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FC0C-9B04-4490-AC5B-CF2314C11A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664E-0BC5-4438-84D8-7880EB4DCB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1789-4CF5-417B-A6A2-0BA08A5BFA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7DFF-8536-42BD-94A2-7551FED83A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6FD9-F3AE-41FB-97D5-214A022D2F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28DC-16F2-414A-9C5F-639D998B7E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D549-B09E-4F86-8BA6-BECC21D1F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3C92-8090-4383-BA93-5D76B118C6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2C1E-8B32-4E11-81A3-C53B296105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30E9-F7F0-4BD6-A192-9C03F938C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7859-07B6-4D2F-A3F2-F5E46B599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94ED-783E-4A9C-81DD-C2E25BB7E9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936C-5AAB-463C-AEB2-41FF55BF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B73-0A18-4CC2-BB07-B878A58A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958-737C-497A-AC9C-9B3D1DBA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176-30B7-41CA-B28D-12A105B0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1FB-A7A2-4B42-B126-BEC5B9B6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7390-91DA-401A-84B3-3EFF852C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CB5-F286-4574-A027-F56FFD30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6B3-D7A7-476B-BF28-F37E20BD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A72-CBB9-42AA-AED6-0D6AD81B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CFA-7176-4811-A9C6-5FB9B8DB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18E-FB66-47C4-95FD-271AA2D0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492-B48F-4B43-A72A-2DFCAE09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5148-D3D5-4C07-AD7A-48273B74BBB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00040" y="7858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олнительны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казателях работы дневных стационаров медицинских организаций, оказывающих помощь на дом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ционаров на дому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7400" y="333360"/>
            <a:ext cx="8256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субъекта Российской Федерации ___________________________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РАБОТЫ ДНЕВНЫХ СТАЦИОНАРОВ МЕДИЦИНСКИХ ОРГАНИЗАЦИЙ, ОКАЗЫВАЮЩИХ МЕДИЦИНСКУЮ ПОМОЩЬ НА ДОМУ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к дневных стационаров медицинских организаций, оказывающих медицинскую помощь на д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9640" y="2049480"/>
          <a:ext cx="8064720" cy="3176640"/>
        </p:xfrm>
        <a:graphic>
          <a:graphicData uri="http://schemas.openxmlformats.org/drawingml/2006/table">
            <a:tbl>
              <a:tblPr/>
              <a:tblGrid>
                <a:gridCol w="1584360"/>
                <a:gridCol w="360360"/>
                <a:gridCol w="358920"/>
                <a:gridCol w="504720"/>
                <a:gridCol w="503280"/>
                <a:gridCol w="576360"/>
                <a:gridCol w="544320"/>
                <a:gridCol w="573120"/>
                <a:gridCol w="498600"/>
                <a:gridCol w="466560"/>
                <a:gridCol w="561960"/>
                <a:gridCol w="561960"/>
                <a:gridCol w="517680"/>
                <a:gridCol w="452520"/>
              </a:tblGrid>
              <a:tr h="140760"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него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-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39640" y="5246640"/>
          <a:ext cx="8209080" cy="685800"/>
        </p:xfrm>
        <a:graphic>
          <a:graphicData uri="http://schemas.openxmlformats.org/drawingml/2006/table">
            <a:tbl>
              <a:tblPr/>
              <a:tblGrid>
                <a:gridCol w="149400"/>
                <a:gridCol w="2636640"/>
                <a:gridCol w="2819160"/>
                <a:gridCol w="1455120"/>
                <a:gridCol w="138960"/>
                <a:gridCol w="1009800"/>
              </a:tblGrid>
              <a:tr h="548280">
                <a:tc gridSpan="4"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дневном стационаре при  подразделениях медицинских организаций, оказывающих медицинскую помощь  на дому всего 1________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етей 2 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7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39640" y="5950080"/>
          <a:ext cx="8136000" cy="365040"/>
        </p:xfrm>
        <a:graphic>
          <a:graphicData uri="http://schemas.openxmlformats.org/drawingml/2006/table">
            <a:tbl>
              <a:tblPr/>
              <a:tblGrid>
                <a:gridCol w="7373880"/>
                <a:gridCol w="439920"/>
                <a:gridCol w="322200"/>
              </a:tblGrid>
              <a:tr h="3650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исанных сельских жителей из дневных стационаров медицинских организаций, оказывающих медицинскую помощь  на дому 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3560" y="5079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Взрослые (18 лет и старше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6680" y="1027080"/>
          <a:ext cx="8286480" cy="5775480"/>
        </p:xfrm>
        <a:graphic>
          <a:graphicData uri="http://schemas.openxmlformats.org/drawingml/2006/table">
            <a:tbl>
              <a:tblPr/>
              <a:tblGrid>
                <a:gridCol w="3558960"/>
                <a:gridCol w="360360"/>
                <a:gridCol w="720720"/>
                <a:gridCol w="1295640"/>
                <a:gridCol w="1368360"/>
                <a:gridCol w="9824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Дети (0-17 лет включительн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957240"/>
          <a:ext cx="8229600" cy="5538960"/>
        </p:xfrm>
        <a:graphic>
          <a:graphicData uri="http://schemas.openxmlformats.org/drawingml/2006/table">
            <a:tbl>
              <a:tblPr/>
              <a:tblGrid>
                <a:gridCol w="3495600"/>
                <a:gridCol w="360360"/>
                <a:gridCol w="718920"/>
                <a:gridCol w="1440000"/>
                <a:gridCol w="1297080"/>
                <a:gridCol w="9176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matveeva</cp:lastModifiedBy>
  <cp:lastPrinted>2020-12-02T13:53:05Z</cp:lastPrinted>
  <dcterms:modified xsi:type="dcterms:W3CDTF">2020-12-28T11:33:46Z</dcterms:modified>
  <cp:revision>379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